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7508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7188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75080" y="667188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8B31-A35A-4335-ACFF-57194FD91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1747-9B87-457F-8633-42FCEDF2C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7CAA-E3EB-40B4-9140-213107818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7A93-5090-4645-ABCB-618DEE2C3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309E-4EC7-45C4-A5C8-0736C9130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2ABF-6029-43C8-A6F8-51E05411B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7DE4-7AD6-4260-92D0-1D9184870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E27F-6287-41F7-A489-D9736A7A4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4D60-4957-4C98-884C-ED3863DF0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D5DC-AA5A-43AB-A0D2-EDD155BA8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http://www.50states.com/ to find information about your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51E0-607D-4AFA-A163-45A7D8016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8A35-A705-4BB9-919A-C7445DFA4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7BEE-6BE2-4FC7-B375-F14F591B2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32A8-1B8C-4D91-B8CF-266926786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88E6-ED62-4942-B536-D4ACE711E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A8C1-AE2B-4B7C-8B2E-278F180BA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275440" y="667224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307B-CB2F-42FD-A89B-A1CE04158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Header Placeholder 4"/>
          <p:cNvSpPr/>
          <p:nvPr/>
        </p:nvSpPr>
        <p:spPr>
          <a:xfrm>
            <a:off x="0" y="0"/>
            <a:ext cx="403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 I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24D-EE97-443D-A9E3-B8758ABC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D7E-B3E5-4D65-9C81-0E7A5ABB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603-1275-4FB0-B0CC-538F773F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0FD-4A71-4E32-86E0-EDEDFC1F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866-7376-463E-B16D-8A33ECA0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BAA-F3DC-4BDB-BD0C-466AAF41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B92-FA9E-4EB9-B4EB-D787EC32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713-51A2-4E15-8FA6-FE9991EE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039-8554-4C5B-8406-38619D09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B98-81A4-436F-A7EA-FAF14D1E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8338-53EC-4BA9-8BA1-53D3ABAA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FD2-AC51-4DC0-BB8C-34CA17E1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AB67-0CA8-45C6-A5EB-1961F3E52F34}" type="slidenum">
              <a:rPr b="0" lang="en-US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tat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Name of Your Stat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ographic Location and Neighb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914400" y="2438280"/>
            <a:ext cx="7162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State of (State) is located in the ____________________ region of the United Stat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ist all the neighboring Stat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_______________________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_______________________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_______________________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_______________________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_______________________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 of US Region (State) is located 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905120" y="32767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lease place a map of the US region your State is located i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ces to Vis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85800" y="1600200"/>
            <a:ext cx="67816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place in your state that would be interesting to visit.  Tell where they are located in the state and why it would be interesting to visit them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304920" y="6172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lace 1 of 2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ces to Vis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5800" y="1600200"/>
            <a:ext cx="678168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second and final place in your state that would be interesting to visit.  Tell where they are located in the state and why it would be interesting to visit them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57200" y="6095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lace 2 of 2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914400" y="182880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ree well known residents of your state. Tell what they did to become famou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38080" y="1981080"/>
            <a:ext cx="769644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space insert a political and/or physical map of your state.  The map must show the capital, name the major rivers and bodies of water, major landforms (mountains, plateaus, deserts etc.), and historical/tourist areas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38080" y="1828800"/>
            <a:ext cx="7086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ief products of the state includ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(farm) product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ng product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d good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62120" y="1752480"/>
            <a:ext cx="78483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high temperature in July is _________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high temperature in January is __________.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yearly precipitation is _____________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14400" y="1752480"/>
            <a:ext cx="79246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nd describe a few different kinds of mineral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other resources such as forests, fishing or farming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creational Activities of (name of your stat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 pro and college sports teams, and other various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mbols of (name of your sta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bird 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flower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tree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248520" y="3276720"/>
            <a:ext cx="11430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657600" y="5029200"/>
            <a:ext cx="1143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733920" y="1981080"/>
            <a:ext cx="9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here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657600" y="50292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here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248520" y="3429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icture here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resources you used for your research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 Fla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te the state flag here and give a brief explanation of what is on the fla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343400" y="3962520"/>
            <a:ext cx="35812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878720" y="488808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aste Flag he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 Nick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what is the state’s nickname. Write a short explanation of how your state got this nickna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 Mot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85800" y="1676520"/>
            <a:ext cx="7010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about the state motto and what makes this state speci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1447920"/>
            <a:ext cx="792504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"/>
              </a:rPr>
              <a:t>First Inhabitan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 major tribes of Native Americans that lived in this state. Include a few interesting facts about these peopl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"/>
              </a:rPr>
              <a:t>Explo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explorers visited your state and where did they come from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"/>
              </a:rPr>
              <a:t>Settlemen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as the first settlement located in your state? Who started the settlement and why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 History,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838080" y="1752480"/>
            <a:ext cx="78487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"/>
              </a:rPr>
              <a:t>Colonial Day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state was one of the original thirteen colonies, explain what life was probably like during that tim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"/>
              </a:rPr>
              <a:t>Territorial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r state was a territory before it became a state, explain when the United States Congress created the territory. Explain how settlers were able to obtain land in the new territory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e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38080" y="1752480"/>
            <a:ext cx="7848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tate became the ____ state in the United States in ____. The first governor of the state was _________.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Name of Your Sta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457200" y="137160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apital of (State) is ____________________________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Abbreviation of (State) is ________________________________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2010 Population of (State) is _____________________________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533520" y="57913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lease Add a Picture of the State Capita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16:38:09Z</dcterms:created>
  <dc:creator>Connie Campbell</dc:creator>
  <dc:description/>
  <dc:language>en-US</dc:language>
  <cp:lastModifiedBy>rdepiro</cp:lastModifiedBy>
  <cp:lastPrinted>2001-06-01T13:12:48Z</cp:lastPrinted>
  <dcterms:modified xsi:type="dcterms:W3CDTF">2011-06-07T14:02:34Z</dcterms:modified>
  <cp:revision>21</cp:revision>
  <dc:subject/>
  <dc:title>Our 50 States: [Name of Your State]</dc:title>
</cp:coreProperties>
</file>